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6A9-F01D-4617-A1E8-A6A5CF8E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0D9-7962-4285-80A7-3B17B92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FF8-81EE-489F-8B89-5111AC80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01F-FD83-457B-8A60-94CD62CE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765-CCB0-4028-AF83-37FE678D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3EB-CA99-4707-B809-A633A908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798-1988-4B6F-B1AE-DD746D5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ABB-2F9F-487D-B94F-5A2977F0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ABC-3570-4E4E-B7A1-A31320F9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76D-76AA-45BB-B664-D71A528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C6B-75DA-4BA2-B4EE-488317B0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ABC-8F2C-47F3-8EFC-0D0A7CE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5A77-BBE8-4467-B485-BD870894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654/Morgan_de_Avalon/morgan_le_fay.jpg&amp;imgrefurl=http://secuestradoraenamorada.blogspot.com/&amp;usg=__q_RK8ArNMS6NJVAv9zgHurkxFQs=&amp;h=419&amp;w=300&amp;sz=18&amp;hl=en&amp;start=34&amp;um=1&amp;tbnid=7KQxS-kAu_mOFM:&amp;tbnh=125&amp;tbnw=89&amp;prev=/images%3Fq%3Dmorgan%2Ble%2Bfay%26ndsp%3D20%26hl%3Den%26rlz%3D1T4RNWN_enUS310US220%26sa%3DN%26start%3D20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hannas-art.com/art/MorganLeFay1.jpg&amp;imgrefurl=http://www.johannas-art.com/legends_morgan.php&amp;usg=__EZl2TALkcMqLFSmaEjtu0XOaf5o=&amp;h=516&amp;w=450&amp;sz=55&amp;hl=en&amp;start=3&amp;um=1&amp;tbnid=MQ3Ow_di8n_70M:&amp;tbnh=131&amp;tbnw=114&amp;prev=/images%3Fq%3Dmorgan%2Ble%2Bfay%26hl%3Den%26rlz%3D1T4RNWN_enUS310US220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ir-lancelot.co.uk/images/Morgan-le-fay.jpg&amp;imgrefurl=http://www.sir-lancelot.co.uk/morgan-le-fay.htm&amp;usg=__NHrJCqWzC6tRFouNOlRSDUe7kLk=&amp;h=599&amp;w=422&amp;sz=55&amp;hl=en&amp;start=4&amp;um=1&amp;tbnid=MJxZu6cWIevu2M:&amp;tbnh=135&amp;tbnw=95&amp;prev=/images%3Fq%3Dmorgan%2Ble%2Bfay%26hl%3Den%26rlz%3D1T4RNWN_enUS310US220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ybritishkingdoms.com/bios/images/morgan_le_fay.jpg&amp;imgrefurl=http://www.earlybritishkingdoms.com/bios/morgan.html&amp;usg=__PmHR0z6M2ST6eOgb_Cd4yvrZ-T8=&amp;h=400&amp;w=269&amp;sz=55&amp;hl=en&amp;start=1&amp;um=1&amp;tbnid=kzXDAEupP3gl5M:&amp;tbnh=124&amp;tbnw=83&amp;prev=/images%3Fq%3Dmorgan%2Ble%2Bfay%26hl%3Den%26rlz%3D1T4RNWN_enUS310US220%26sa%3DN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elfwood.com/art/n/i/nixjim13/ncadetmorgan.jpg&amp;imgrefurl=http://www.elfwood.com/~nixjim13/Morgan_Le_Fay.3089485.html&amp;usg=__mSzwc4aTeZU7M2bAnv5SjtdtODo=&amp;h=700&amp;w=501&amp;sz=79&amp;hl=en&amp;start=13&amp;um=1&amp;tbnid=-rEdBCYR2aMZBM:&amp;tbnh=140&amp;tbnw=100&amp;prev=/images%3Fq%3Dmorgan%2Ble%2Bfay%26hl%3Den%26rlz%3D1T4RNWN_enUS310US220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hannas-art.com/art/MorganLeFay.jpg&amp;imgrefurl=http://www.johannas-art.com/gallery_legends.php&amp;usg=__WNHGDK_gIpm27OYMOc5Ny3bYZm0=&amp;h=498&amp;w=352&amp;sz=55&amp;hl=en&amp;start=12&amp;um=1&amp;tbnid=RWspZRo2tGrDUM:&amp;tbnh=130&amp;tbnw=92&amp;prev=/images%3Fq%3Dmorgan%2Ble%2Bfay%26hl%3Den%26rlz%3D1T4RNWN_enUS310US220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1.ioffer.com/img/item/912/929/4/1.jpg&amp;imgrefurl=http://www.ioffer.com/c/Other-1013268&amp;usg=__bacWXoV6fXQ4R1YqgTeOCjSCLGo=&amp;h=265&amp;w=283&amp;sz=15&amp;hl=en&amp;start=19&amp;um=1&amp;tbnid=xiC93x6Wmav9wM:&amp;tbnh=107&amp;tbnw=114&amp;prev=/images%3Fq%3Dmorgan%2Ble%2Bfay%26hl%3Den%26rlz%3D1T4RNWN_enUS310US220%26sa%3DN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arvel.com/universe3zx/images/thumb/2/2a/Morgan_lf.jpg/440px-Morgan_lf.jpg&amp;imgrefurl=http://marvel.com/universe/Morgan_Le_Fay&amp;usg=__YUTT5azBepgZgjG9JvyTekGaeX8=&amp;h=312&amp;w=440&amp;sz=33&amp;hl=en&amp;start=11&amp;um=1&amp;tbnid=jagJSv0JGzVj3M:&amp;tbnh=90&amp;tbnw=127&amp;prev=/images%3Fq%3Dmorgan%2Ble%2Bfay%26hl%3Den%26rlz%3D1T4RNWN_enUS310US220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1st-art-gallery.com/thumbnail/142694/1/Morgan-Le-Fay.jpg&amp;imgrefurl=http://www.1st-art-gallery.com/Sir-Edward-Coley-Burne-Jones/Morgan-Le-Fay.html&amp;usg=__AGyokCIxNVkvG8e_hZRaPhQ1VEI=&amp;h=600&amp;w=294&amp;sz=33&amp;hl=en&amp;start=16&amp;um=1&amp;tbnid=T15r0f0jww8boM:&amp;tbnh=135&amp;tbnw=66&amp;prev=/images%3Fq%3Dmorgan%2Ble%2Bfay%26hl%3Den%26rlz%3D1T4RNWN_enUS310US220%26sa%3DN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752480"/>
            <a:ext cx="578664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rgan Le Fa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described as a giver of healing ointments, but the lady is usually portrayed as a wicked Enchantress who learned her initial mysterious skills from her corrupt education in an early Christian nunn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267080"/>
            <a:ext cx="336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5600" y="1295280"/>
            <a:ext cx="56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arlybritishkingdoms.com/bios/mor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5960" y="1676520"/>
            <a:ext cx="59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arlybritishkingdoms.com/bios/morgau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5600" y="213372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imelessmyths.com/arthurian/women.html#Morga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5240" y="251460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kingarthursknights.com/others/morganlefay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5240" y="297180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kingarthursknights.com/others/morgause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6320" y="3352680"/>
            <a:ext cx="59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ritannia.com/history/biographies/mor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1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Circa. A.D 473 Circa means not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women, a queen and also a vil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half sister of King Arth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505320"/>
            <a:ext cx="3676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62160" y="1219320"/>
            <a:ext cx="4647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names for her are- Morgan in Welsh and English, Morganna in L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ghter of Ygerna and first husband Gorlo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l in love with the kings nephew giom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3724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81280" y="12949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gan Le Fay hated Arthur for his purity, and plotted with her lover, Sir Accolon, to steal both Excalibur and the British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her Pendragon was Morgan Le Fays step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305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ecame Guinevere's lady in waiting and fell in love with the kings nephew, Giomar, then Guinevere soon put an end to the ro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3716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real name is Morgaine Le F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- Sorceress would be world conqueror, former priestess , former qu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19320"/>
            <a:ext cx="4114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rgan Le F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al Status- citizen of the fifth century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of Birth- Tintagil Castle, Gorre now part of modern Cornwall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267080"/>
            <a:ext cx="2990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step mothers name was Ig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youngest of Gorlois and Igraines daugh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143000"/>
            <a:ext cx="495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gan Le F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reotypical image of Morgan is often that of a villainess: a seductive, megalomaniacal sorceress who wishes to overthrow Arth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7:52:13Z</dcterms:created>
  <dc:creator>Preferred User</dc:creator>
  <dc:description/>
  <dc:language>en-US</dc:language>
  <cp:lastModifiedBy>Preferred User</cp:lastModifiedBy>
  <dcterms:modified xsi:type="dcterms:W3CDTF">2009-12-01T18:00:13Z</dcterms:modified>
  <cp:revision>34</cp:revision>
  <dc:subject/>
  <dc:title>Slide 1</dc:title>
</cp:coreProperties>
</file>